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80FE-E518-42FF-8017-BFA8EAFD3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F7C9-27BC-49BA-8AE8-C49D528D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HAVE HUGE SPREAD OF BACKGROUNDS AND ABILITIES IN YOUR CLASSES - JUST LIKE TEACHING, HARD TO PITCH THIS TALK AT RIGHT LEVEL . HOPEFULLY SOMETHING OF INTEREST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E7B3-42D4-4717-9D13-56BB2CA4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peak without mercy’ – do not accommodate, do not listen like ESL teachers (hear in a special way – make adjustments for accent, flip the word order, change the tense, guess meanings from context, and scaffold the next turn).  Other people don’t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quot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rival program where social membership extended  irony; no, here, no.  Look at conditions surrounding the new arrivals program </a:t>
            </a:r>
            <a:r>
              <a:rPr b="0" lang="en-A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6E1E-7D93-433D-8DB6-7B1E4CDC6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peak without mercy’ – do not accommodate, do not listen like ESL teachers (hear in a special way – make adjustments for accent, flip the word order, change the tense, guess meanings from context, and scaffold the next turn).  Other people don’t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quot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rival program where social membership extended  irony; no, here, no.  Look at conditions surrounding the new arrivals program </a:t>
            </a:r>
            <a:r>
              <a:rPr b="0" lang="en-A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7EBE-3A19-435C-873B-680593A2C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D81-6198-4E7B-AB11-D30565B13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ITICAL TO TEACH NOTE-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D656-A8B5-4E89-82FE-275C63B16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1CFD-1A8A-4D10-BC53-41D4A7392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+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ext has 250 words on page – only 20 – 25 can be new or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approach you have to content and curriculum 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- class time not enough.  How do we engage people in practising out of ho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5A4-0B58-43E0-A9AC-ABF44D37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2 takes on literacy an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fields of SLA, content based language teaching, scaffolding and mainstream literacy provide many models for negotiating and generating text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se models are based on research  which mostly stems from ESL, EFL, or mainstream literacy.  Language focused research rarely targets low literacy refugee learners with interrupted schoo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4859-BC56-45AD-B74F-8D922106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hensible input - I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374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3333cc"/>
                </a:solidFill>
                <a:latin typeface="Arial"/>
              </a:rPr>
              <a:t>meaning is the primary foc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374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language practice is contextuali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ide range of doable activities &amp;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all macroskills are included (comprehension = the baseli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374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3333cc"/>
                </a:solidFill>
                <a:latin typeface="Arial"/>
              </a:rPr>
              <a:t>enjoyment</a:t>
            </a:r>
            <a:r>
              <a:rPr b="0" lang="en-AU" sz="1000" spc="-1" strike="noStrike">
                <a:solidFill>
                  <a:srgbClr val="3333cc"/>
                </a:solidFill>
                <a:latin typeface="Arial"/>
              </a:rPr>
              <a:t> of reading as a go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372-58BA-4E1C-AE69-C9362BC9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68E-8A54-40E7-B3CD-259D88D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522-52D4-4FC4-8414-89919E24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3FC-6AF1-44E7-B445-B6BCBB2A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1B5D-08F2-4640-8855-CB2E32FE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68B7-DD49-4331-80A7-FAD3CA7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0B14-C1E7-4374-9608-A0667BEA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A646-43CD-428B-B3BA-845A5847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D2A0-5189-4DD0-8D65-EDDE42CF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516E-5208-4B83-A1DC-EB662C58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9053-DB92-4BCD-BFE0-CB82E38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3DE-C36E-4621-B2FA-453426F5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720F-14C7-4632-B3D7-71E4244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9AB6-D2F0-4AD9-BFA5-4194EA2C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501A-7A5C-4091-8E25-9BABB41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F1A7-5894-4605-A664-7997E954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0880-DBC1-4101-BA73-4A410E74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187-748C-4358-AE5D-6AEB2017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C98-01DF-4C92-8EFF-634BFC0D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2BA-191A-4368-9FAE-E25E52E1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3FD-5A1D-457C-A5AF-68F8D4D0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606-2D52-4904-A4B0-B63214D0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F09-E271-4B50-9957-93B7CDB8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5BB-BB1B-4780-88BF-4A7D6AF8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CF57-6339-42E3-A5C6-6FE19252E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59AA-4339-4780-A21C-AD8F2BEEA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577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REHENSION AND VOCABULARY: THE BUILDING BLOCKS OF LITERA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811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L Conferenc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y.miller@education.monash.edu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images.jpg"/>
          <p:cNvPicPr/>
          <p:nvPr/>
        </p:nvPicPr>
        <p:blipFill>
          <a:blip r:embed="rId1"/>
          <a:stretch/>
        </p:blipFill>
        <p:spPr>
          <a:xfrm>
            <a:off x="3733920" y="2438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3333cc"/>
                </a:solidFill>
                <a:latin typeface="Arial"/>
              </a:rPr>
              <a:t>Explicit teaching</a:t>
            </a:r>
            <a:r>
              <a:rPr b="1" lang="en-AU" sz="4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39640" y="1413000"/>
            <a:ext cx="8064720" cy="9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systematic and explicit focus 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ocabulary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form, meaning &amp; use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ntence structur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mmatic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cycling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vising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e language structures are vital for memory and languag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3333cc"/>
                </a:solidFill>
                <a:latin typeface="Arial"/>
              </a:rPr>
              <a:t>Choosing the text</a:t>
            </a:r>
            <a:r>
              <a:rPr b="1" lang="en-AU" sz="4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77080" y="549360"/>
            <a:ext cx="431640" cy="0"/>
          </a:xfrm>
          <a:prstGeom prst="line">
            <a:avLst/>
          </a:prstGeom>
          <a:ln w="38160">
            <a:solidFill>
              <a:srgbClr val="af9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39640" y="1557360"/>
            <a:ext cx="8064720" cy="71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ally interesting /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too long or too diffic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lust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larg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nts with easy layout (modified in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genre (but usable as a springboard to other gen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iring or informative or quir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all 3!)  We want students to respo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spcAft>
                <a:spcPts val="901"/>
              </a:spcAft>
              <a:buClr>
                <a:srgbClr val="af9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8400" y="533160"/>
            <a:ext cx="657036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3333cc"/>
                </a:solidFill>
                <a:latin typeface="Arial"/>
              </a:rPr>
              <a:t>Reading the text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55640" y="1916280"/>
            <a:ext cx="748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teacher reads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teacher/ s’o else records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teacher reads leaving gaps (SS fill in or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students read in pairs/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students read in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students read around th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students rehearse a section at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students record themselves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phase approach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reading activities (activate prior k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meaning (macro level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ist, mai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meaning (micro level)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tail + attention to forms [vocab; grammar; genr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read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eating and having fun with text; ‘critical’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(image) – news articl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 goes headfirst into great white’s jaws and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ad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ereading (activate prior learning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headline only – predict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3 questions could we ask about this sto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picture of a shark – 5 mins brainsto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 to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‘Has anyone ever been bitten or attacked by an animal?’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acro-level tasks - gi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2120" y="2286000"/>
          <a:ext cx="8110440" cy="3749760"/>
        </p:xfrm>
        <a:graphic>
          <a:graphicData uri="http://schemas.openxmlformats.org/drawingml/2006/table">
            <a:tbl>
              <a:tblPr/>
              <a:tblGrid>
                <a:gridCol w="3233520"/>
                <a:gridCol w="4876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&amp;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atching sentence halv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912960" y="1905120"/>
          <a:ext cx="8110440" cy="3301920"/>
        </p:xfrm>
        <a:graphic>
          <a:graphicData uri="http://schemas.openxmlformats.org/drawingml/2006/table">
            <a:tbl>
              <a:tblPr/>
              <a:tblGrid>
                <a:gridCol w="687240"/>
                <a:gridCol w="3367080"/>
                <a:gridCol w="595440"/>
                <a:gridCol w="346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The diver was looking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to punch the shark in the e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Everything went bl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near the border of NSW and Vic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The man used his right 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that the shark was very b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Eric’s son Mark was in the b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bal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Cape How is a fishing sp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nd helped pull his father out of the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Eric told the pol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because he was in the mouth of a great white sh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5" name="TextBox 7"/>
          <p:cNvSpPr/>
          <p:nvPr/>
        </p:nvSpPr>
        <p:spPr>
          <a:xfrm>
            <a:off x="1295280" y="5791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1.       2.       3.         4.        5.        6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icro level task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-meaning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ling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chains / concept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ze (paraphrase of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a word bank/ word wall/ word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ing and vocabulary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bled word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map of this 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rammar task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nistanthismaskwassmashedintohis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tense (underline in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speech (underline in 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nouns (circle in 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lasses (sort a box of vocab into gro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line-ups (envelo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teracy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dily dimension of writing, that is sitting and labouring to construct a text, which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bituated techniq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proficient writers, is generally taken for granted within contemporary literacy pedagogy.’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Knapp &amp; Watkins, 200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 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at else is taken for grant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ample tasks (post-reading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group, talk about why animals atta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.  Make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nd perform the TV news excerpt on th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n email from the man’s son to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tory from the shark’s point of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 concept map of harmf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animals (land, sea and 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animal in the concept map, add a terrif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terative adjective to describe it.  E.g. terrify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pan, furious funnel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a research project on another survival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12600" y="-360"/>
            <a:ext cx="8110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analysis (vocab list; difficulties; goals or foc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reading tasks + suggest addition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meaning – macro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meaning micro level (vocabul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meaning micro level (gramm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–reading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3333cc"/>
                </a:solidFill>
                <a:latin typeface="Arial"/>
              </a:rPr>
              <a:t>Research on comprehension &amp; vocab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peatedly demonstrates a strong relationship between vocabulary knowledge and reading comprehension  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[Proportion of difficult words in a text = single most reliable predictor of its difficul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ocabulary development is both an outcome of comprehension and a precursor to it, with word meanings making up as much as 70-80% of 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rect instruction in vocabulary influences comprehension more than any other factor. Although wide reading can build word knowledge, students need thoughtful and systematic instruction in key vocabulary as w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aching fewer words well is more effective than teaching many words in a cursory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ome literacy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4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tudents to read a text with ease, </a:t>
            </a:r>
            <a:r>
              <a:rPr b="1" lang="en-US" sz="2400" spc="-1" strike="noStrike">
                <a:solidFill>
                  <a:srgbClr val="9a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some help from the teacher, they need to recognize ov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-95% of the vocabu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ation, 2001; Westwood, 200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ow literacy learners, a ‘whole language’ approach must be supplemented by an explicit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ing focus on building sight vocabulary and comprehension strateg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(Westwood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Insights from theory about reading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ior knowledge is needed to gain meaning from tex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mantic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= knowledge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yntactic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= knowledge of the structure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raphophonic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knowledge of sound-lett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se are used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380520"/>
            <a:ext cx="81630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. Where do we get our ideas about teaching literacy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. Models of literacy pedag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3366"/>
                </a:solidFill>
                <a:uFillTx/>
                <a:latin typeface="Arial"/>
              </a:rPr>
              <a:t>The curriculum cycle</a:t>
            </a:r>
            <a:r>
              <a:rPr b="1" lang="en-AU" sz="4400" spc="-1" strike="noStrike">
                <a:solidFill>
                  <a:srgbClr val="003366"/>
                </a:solidFill>
                <a:latin typeface="Arial"/>
              </a:rPr>
              <a:t>   </a:t>
            </a:r>
            <a:br>
              <a:rPr sz="4400"/>
            </a:br>
            <a:r>
              <a:rPr b="1" lang="en-AU" sz="2800" spc="-1" strike="noStrike">
                <a:solidFill>
                  <a:srgbClr val="003366"/>
                </a:solidFill>
                <a:latin typeface="Arial"/>
              </a:rPr>
              <a:t>(e.g. Derewianka; Gibb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uilding the fiel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(content knowledge, vocabulary, speaking, listening, viewing, reading, understanding, note-ta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odeling the tex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(purpose, structure, language features, 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Joint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(Teacher and students write a sample text together; illustrating the process of writing; content +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dependent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(Students plan, write and redraft their own text)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Reader roles (Luke &amp; Freebody 1990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de br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cc"/>
                </a:solidFill>
                <a:latin typeface="Arial"/>
              </a:rPr>
              <a:t>Transformative pedagogy</a:t>
            </a:r>
            <a:r>
              <a:rPr b="1" lang="en-AU" sz="4800" spc="-1" strike="noStrike">
                <a:solidFill>
                  <a:srgbClr val="3333cc"/>
                </a:solidFill>
                <a:latin typeface="Arial"/>
              </a:rPr>
              <a:t>  </a:t>
            </a:r>
            <a:br>
              <a:rPr sz="4800"/>
            </a:br>
            <a:r>
              <a:rPr b="1" lang="en-AU" sz="2800" spc="-1" strike="noStrike">
                <a:solidFill>
                  <a:srgbClr val="3333cc"/>
                </a:solidFill>
                <a:latin typeface="Arial"/>
              </a:rPr>
              <a:t>Cummins (20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edagogical focus on meaning, language and 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Experiential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activating prior knowl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Literal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comprehension – who, what, where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when, how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Personal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compare and contrast with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personal exper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Critical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inferences, generalisations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alternatives, hows/wh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Creative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actions eg letter to editor, survey, play, art, newsle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5:44:56Z</dcterms:created>
  <dc:creator>Faculty of Education</dc:creator>
  <dc:description/>
  <dc:language>en-US</dc:language>
  <cp:lastModifiedBy>DEET</cp:lastModifiedBy>
  <cp:lastPrinted>2008-01-07T07:00:09Z</cp:lastPrinted>
  <dcterms:modified xsi:type="dcterms:W3CDTF">2009-12-02T00:54:51Z</dcterms:modified>
  <cp:revision>54</cp:revision>
  <dc:subject/>
  <dc:title>PowerPoint Presentation</dc:title>
</cp:coreProperties>
</file>